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3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09789-8496-4D1F-9157-55242B3022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DC5FD-19CE-4D32-8681-10B2EBD09D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416F5-2B73-4C15-9315-F299114563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BEF96-8990-470F-A837-A62E63EAFD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1143000" y="69516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E82A5-845D-48F7-A8F0-22CF74609B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"/>
          <p:cNvSpPr/>
          <p:nvPr/>
        </p:nvSpPr>
        <p:spPr>
          <a:xfrm>
            <a:off x="1143000" y="69516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EB930-F94C-4432-9306-498D7F7C94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925560" y="685800"/>
            <a:ext cx="5005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1CDB4-DF3F-400B-B8B9-9FC6222F0B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25EFA-1085-4378-8FDC-07C46FE408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EC8E5-42BD-42FA-8E49-8D6F70DD27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F6F71-9EE7-4337-8132-1265D5EA33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1143000" y="695160"/>
            <a:ext cx="4570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4D0BA-765B-4B81-9553-A66C64F233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FF09-DECE-4CB4-9EE1-A3676AEA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0DB-ADE3-48F5-9C2A-F8D5EDB5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160488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0640" y="396828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677-1CCE-4F95-B856-3ADB4588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7480" y="160488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7760" y="160488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7480" y="396828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7760" y="396828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D817-1B92-4EC2-9DBF-249A2607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BB63-E652-434B-942E-8EA0DF13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448-D58C-4357-81AF-AC992193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0640" y="160488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1D3-B91B-4096-8470-B810F3F3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EAB1-6947-4F5B-81FC-3CD2DE20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64480" cy="80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300-4EA7-46E4-991C-7482EE8C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640" y="160488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48D7-121B-430F-917E-C64D9BA8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60488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0640" y="396828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7A2-0B5E-4024-ABBC-2F4B3597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0488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BDC3-E350-4C74-93F3-030130FB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3640" cy="6846480"/>
            <a:chOff x="0" y="0"/>
            <a:chExt cx="9143640" cy="6846480"/>
          </a:xfrm>
        </p:grpSpPr>
        <p:sp>
          <p:nvSpPr>
            <p:cNvPr id="1" name="Freeform 2"/>
            <p:cNvSpPr/>
            <p:nvPr/>
          </p:nvSpPr>
          <p:spPr>
            <a:xfrm>
              <a:off x="8002800" y="4164120"/>
              <a:ext cx="1140840" cy="268236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8544240" y="6018120"/>
              <a:ext cx="599400" cy="82836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9010800" y="6684840"/>
              <a:ext cx="132840" cy="16164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455400" y="0"/>
              <a:ext cx="8083080" cy="6841800"/>
              <a:chOff x="455400" y="0"/>
              <a:chExt cx="8083080" cy="6841800"/>
            </a:xfrm>
          </p:grpSpPr>
          <p:sp>
            <p:nvSpPr>
              <p:cNvPr id="5" name="Freeform 6"/>
              <p:cNvSpPr/>
              <p:nvPr/>
            </p:nvSpPr>
            <p:spPr>
              <a:xfrm>
                <a:off x="4420440" y="0"/>
                <a:ext cx="11412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895280" y="0"/>
                <a:ext cx="27576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5321880" y="0"/>
                <a:ext cx="53460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5825160" y="0"/>
                <a:ext cx="67752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6253560" y="0"/>
                <a:ext cx="88524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6729840" y="0"/>
                <a:ext cx="109440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7167600" y="0"/>
                <a:ext cx="137088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3801960" y="0"/>
                <a:ext cx="23760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3116520" y="0"/>
                <a:ext cx="47592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2479680" y="0"/>
                <a:ext cx="67464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6"/>
              <p:cNvSpPr/>
              <p:nvPr/>
            </p:nvSpPr>
            <p:spPr>
              <a:xfrm>
                <a:off x="1784880" y="0"/>
                <a:ext cx="91224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7"/>
              <p:cNvSpPr/>
              <p:nvPr/>
            </p:nvSpPr>
            <p:spPr>
              <a:xfrm>
                <a:off x="1110600" y="0"/>
                <a:ext cx="116928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8"/>
              <p:cNvSpPr/>
              <p:nvPr/>
            </p:nvSpPr>
            <p:spPr>
              <a:xfrm>
                <a:off x="455400" y="0"/>
                <a:ext cx="1332720" cy="6841800"/>
              </a:xfrm>
              <a:prstGeom prst="pie">
                <a:avLst/>
              </a:pr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" name="Freeform 19"/>
            <p:cNvSpPr/>
            <p:nvPr/>
          </p:nvSpPr>
          <p:spPr>
            <a:xfrm>
              <a:off x="7560" y="4600800"/>
              <a:ext cx="961560" cy="224568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7560" y="6170400"/>
              <a:ext cx="361440" cy="676080"/>
            </a:xfrm>
            <a:prstGeom prst="pie">
              <a:avLst/>
            </a:pr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>
              <a:off x="7575840" y="0"/>
              <a:ext cx="1561680" cy="2834280"/>
            </a:xfrm>
            <a:prstGeom prst="pie">
              <a:avLst/>
            </a:prstGeom>
            <a:gradFill rotWithShape="0">
              <a:gsLst>
                <a:gs pos="0">
                  <a:srgbClr val="9abe9d"/>
                </a:gs>
                <a:gs pos="100000">
                  <a:srgbClr val="90b2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>
              <a:off x="7996320" y="0"/>
              <a:ext cx="1141200" cy="134100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>
              <a:off x="8490240" y="0"/>
              <a:ext cx="647280" cy="65700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>
              <a:off x="7560" y="0"/>
              <a:ext cx="1361880" cy="2235960"/>
            </a:xfrm>
            <a:prstGeom prst="pie">
              <a:avLst/>
            </a:prstGeom>
            <a:gradFill rotWithShape="0">
              <a:gsLst>
                <a:gs pos="0">
                  <a:srgbClr val="9abe9d"/>
                </a:gs>
                <a:gs pos="100000">
                  <a:srgbClr val="90b2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>
              <a:off x="7560" y="0"/>
              <a:ext cx="933120" cy="95040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>
              <a:off x="7560" y="0"/>
              <a:ext cx="428400" cy="399600"/>
            </a:xfrm>
            <a:prstGeom prst="pie">
              <a:avLst/>
            </a:pr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Line 27"/>
            <p:cNvSpPr/>
            <p:nvPr/>
          </p:nvSpPr>
          <p:spPr>
            <a:xfrm>
              <a:off x="0" y="4359600"/>
              <a:ext cx="9136080" cy="108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Line 28"/>
            <p:cNvSpPr/>
            <p:nvPr/>
          </p:nvSpPr>
          <p:spPr>
            <a:xfrm>
              <a:off x="0" y="3735720"/>
              <a:ext cx="9136080" cy="144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Line 29"/>
            <p:cNvSpPr/>
            <p:nvPr/>
          </p:nvSpPr>
          <p:spPr>
            <a:xfrm>
              <a:off x="0" y="4983480"/>
              <a:ext cx="9136080" cy="108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" name="Group 30"/>
            <p:cNvGrpSpPr/>
            <p:nvPr/>
          </p:nvGrpSpPr>
          <p:grpSpPr>
            <a:xfrm>
              <a:off x="0" y="622080"/>
              <a:ext cx="9131400" cy="2484720"/>
              <a:chOff x="0" y="622080"/>
              <a:chExt cx="9131400" cy="2484720"/>
            </a:xfrm>
          </p:grpSpPr>
          <p:sp>
            <p:nvSpPr>
              <p:cNvPr id="30" name="Line 31"/>
              <p:cNvSpPr/>
              <p:nvPr/>
            </p:nvSpPr>
            <p:spPr>
              <a:xfrm>
                <a:off x="0" y="1240200"/>
                <a:ext cx="9131400" cy="144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Line 32"/>
              <p:cNvSpPr/>
              <p:nvPr/>
            </p:nvSpPr>
            <p:spPr>
              <a:xfrm>
                <a:off x="0" y="3105360"/>
                <a:ext cx="9131400" cy="144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Line 33"/>
              <p:cNvSpPr/>
              <p:nvPr/>
            </p:nvSpPr>
            <p:spPr>
              <a:xfrm>
                <a:off x="0" y="2485080"/>
                <a:ext cx="9131400" cy="108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Line 34"/>
              <p:cNvSpPr/>
              <p:nvPr/>
            </p:nvSpPr>
            <p:spPr>
              <a:xfrm>
                <a:off x="0" y="1861920"/>
                <a:ext cx="9131400" cy="108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Line 35"/>
              <p:cNvSpPr/>
              <p:nvPr/>
            </p:nvSpPr>
            <p:spPr>
              <a:xfrm>
                <a:off x="0" y="622080"/>
                <a:ext cx="9131400" cy="108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" name="Line 36"/>
            <p:cNvSpPr/>
            <p:nvPr/>
          </p:nvSpPr>
          <p:spPr>
            <a:xfrm>
              <a:off x="0" y="6230880"/>
              <a:ext cx="9136080" cy="108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37"/>
            <p:cNvSpPr/>
            <p:nvPr/>
          </p:nvSpPr>
          <p:spPr>
            <a:xfrm>
              <a:off x="0" y="5607000"/>
              <a:ext cx="9136080" cy="108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64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25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25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05D093-8427-4790-98C8-39BDFF5DDEC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10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7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7000"/>
              </a:lnSpc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7000"/>
              </a:lnSpc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7000"/>
              </a:lnSpc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177840"/>
            <a:ext cx="77724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336600"/>
                </a:solidFill>
                <a:latin typeface="Arial"/>
              </a:rPr>
              <a:t>Inclusão Digital e Uso de Tecnologias Educacionais nas Escolas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240000"/>
            <a:ext cx="7417080" cy="22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Ministério da Educaçã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ecretaria de Educação a Distân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Diretoria de Infra-estrutura em Tecnologia Educacion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7308720" y="6093000"/>
            <a:ext cx="1362240" cy="43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336600"/>
                </a:solidFill>
                <a:latin typeface="Arial"/>
              </a:rPr>
              <a:t>SEED – Programas e Projetos em Andamento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50752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ff"/>
                </a:solidFill>
                <a:latin typeface="Verdana"/>
              </a:rPr>
              <a:t>Infra-estrutura</a:t>
            </a:r>
            <a:r>
              <a:rPr b="1" lang="pt-BR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2200" spc="-1" strike="noStrike">
                <a:solidFill>
                  <a:srgbClr val="3366ff"/>
                </a:solidFill>
                <a:latin typeface="Verdana"/>
              </a:rPr>
              <a:t>–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grama Nacional de Tecnologia Educacional -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ProInf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rojeto Um Computador por Aluno (UC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arteira Digit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tebook para Professo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ff"/>
                </a:solidFill>
                <a:latin typeface="Verdana"/>
              </a:rPr>
              <a:t>Conexão –</a:t>
            </a:r>
            <a:r>
              <a:rPr b="1" lang="pt-BR" sz="2400" spc="-1" strike="noStrike">
                <a:solidFill>
                  <a:srgbClr val="3366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GESA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Banda Larga nas Escol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Rede Nacional Banda Larg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ff"/>
                </a:solidFill>
                <a:latin typeface="Verdana"/>
              </a:rPr>
              <a:t>Conteúdos –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inux Educacion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ortal Domínio Públic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ortal do Profess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Banco Internacional de Objetos Educaciona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ff"/>
                </a:solidFill>
                <a:latin typeface="Verdana"/>
              </a:rPr>
              <a:t>Capacitação –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ídias na Educaçã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apacitação em Tecnologias Educaciona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7740720" y="6308640"/>
            <a:ext cx="1217520" cy="3636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6">
            <a:hlinkClick r:id="rId2" action="ppaction://hlinksldjump"/>
          </p:cNvPr>
          <p:cNvSpPr/>
          <p:nvPr/>
        </p:nvSpPr>
        <p:spPr>
          <a:xfrm>
            <a:off x="826920" y="2349360"/>
            <a:ext cx="1295640" cy="228600"/>
          </a:xfrm>
          <a:custGeom>
            <a:avLst/>
            <a:gdLst>
              <a:gd name="textAreaLeft" fmla="*/ 14760 w 1295640"/>
              <a:gd name="textAreaRight" fmla="*/ 1280880 w 12956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2264" h="21600">
                <a:moveTo>
                  <a:pt x="0" y="0"/>
                </a:moveTo>
                <a:lnTo>
                  <a:pt x="122264" y="0"/>
                </a:lnTo>
                <a:lnTo>
                  <a:pt x="122264" y="21600"/>
                </a:lnTo>
                <a:lnTo>
                  <a:pt x="0" y="21600"/>
                </a:lnTo>
                <a:close/>
              </a:path>
              <a:path fill="lightenLess" w="122264" h="21600">
                <a:moveTo>
                  <a:pt x="0" y="0"/>
                </a:moveTo>
                <a:lnTo>
                  <a:pt x="122264" y="0"/>
                </a:lnTo>
                <a:lnTo>
                  <a:pt x="120864" y="1400"/>
                </a:lnTo>
                <a:lnTo>
                  <a:pt x="1400" y="1400"/>
                </a:lnTo>
                <a:close/>
              </a:path>
              <a:path fill="darken" w="122264" h="21600">
                <a:moveTo>
                  <a:pt x="122264" y="0"/>
                </a:moveTo>
                <a:lnTo>
                  <a:pt x="122264" y="21600"/>
                </a:lnTo>
                <a:lnTo>
                  <a:pt x="120864" y="20200"/>
                </a:lnTo>
                <a:lnTo>
                  <a:pt x="120864" y="1400"/>
                </a:lnTo>
                <a:close/>
              </a:path>
              <a:path fill="darkenLess" w="122264" h="21600">
                <a:moveTo>
                  <a:pt x="122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864" y="20200"/>
                </a:lnTo>
                <a:close/>
              </a:path>
              <a:path fill="lighten" w="122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264" h="21600">
                <a:moveTo>
                  <a:pt x="54126" y="3794"/>
                </a:moveTo>
                <a:lnTo>
                  <a:pt x="68139" y="10800"/>
                </a:lnTo>
                <a:lnTo>
                  <a:pt x="5412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>
            <a:hlinkClick r:id="rId3" action="ppaction://hlinksldjump"/>
          </p:cNvPr>
          <p:cNvSpPr/>
          <p:nvPr/>
        </p:nvSpPr>
        <p:spPr>
          <a:xfrm>
            <a:off x="685800" y="3886200"/>
            <a:ext cx="2133720" cy="380880"/>
          </a:xfrm>
          <a:custGeom>
            <a:avLst/>
            <a:gdLst>
              <a:gd name="textAreaLeft" fmla="*/ 24480 w 2133720"/>
              <a:gd name="textAreaRight" fmla="*/ 2109240 w 2133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0911" h="21600">
                <a:moveTo>
                  <a:pt x="0" y="0"/>
                </a:moveTo>
                <a:lnTo>
                  <a:pt x="120911" y="0"/>
                </a:lnTo>
                <a:lnTo>
                  <a:pt x="120911" y="21600"/>
                </a:lnTo>
                <a:lnTo>
                  <a:pt x="0" y="21600"/>
                </a:lnTo>
                <a:close/>
              </a:path>
              <a:path fill="lightenLess" w="120911" h="21600">
                <a:moveTo>
                  <a:pt x="0" y="0"/>
                </a:moveTo>
                <a:lnTo>
                  <a:pt x="120911" y="0"/>
                </a:lnTo>
                <a:lnTo>
                  <a:pt x="119511" y="1400"/>
                </a:lnTo>
                <a:lnTo>
                  <a:pt x="1400" y="1400"/>
                </a:lnTo>
                <a:close/>
              </a:path>
              <a:path fill="darken" w="120911" h="21600">
                <a:moveTo>
                  <a:pt x="120911" y="0"/>
                </a:moveTo>
                <a:lnTo>
                  <a:pt x="120911" y="21600"/>
                </a:lnTo>
                <a:lnTo>
                  <a:pt x="119511" y="20200"/>
                </a:lnTo>
                <a:lnTo>
                  <a:pt x="119511" y="1400"/>
                </a:lnTo>
                <a:close/>
              </a:path>
              <a:path fill="darkenLess" w="120911" h="21600">
                <a:moveTo>
                  <a:pt x="120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11" y="20200"/>
                </a:lnTo>
                <a:close/>
              </a:path>
              <a:path fill="lighten" w="120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0911" h="21600">
                <a:moveTo>
                  <a:pt x="53449" y="3794"/>
                </a:moveTo>
                <a:lnTo>
                  <a:pt x="67462" y="10800"/>
                </a:lnTo>
                <a:lnTo>
                  <a:pt x="5344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336600"/>
                </a:solidFill>
                <a:latin typeface="Arial"/>
              </a:rPr>
              <a:t>SEED/DITEC – Gestão de Programas</a:t>
            </a:r>
            <a:endParaRPr b="0" lang="en-US" sz="3600" spc="-1" strike="noStrike">
              <a:solidFill>
                <a:srgbClr val="336600"/>
              </a:solidFill>
              <a:latin typeface="Arial"/>
            </a:endParaRPr>
          </a:p>
        </p:txBody>
      </p:sp>
      <p:grpSp>
        <p:nvGrpSpPr>
          <p:cNvPr id="181" name="Group 36"/>
          <p:cNvGrpSpPr/>
          <p:nvPr/>
        </p:nvGrpSpPr>
        <p:grpSpPr>
          <a:xfrm>
            <a:off x="324000" y="1052640"/>
            <a:ext cx="8146800" cy="5112720"/>
            <a:chOff x="324000" y="1052640"/>
            <a:chExt cx="8146800" cy="5112720"/>
          </a:xfrm>
        </p:grpSpPr>
        <p:sp>
          <p:nvSpPr>
            <p:cNvPr id="182" name="AutoShape 4"/>
            <p:cNvSpPr/>
            <p:nvPr/>
          </p:nvSpPr>
          <p:spPr>
            <a:xfrm>
              <a:off x="324000" y="1052640"/>
              <a:ext cx="8146800" cy="42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2056"/>
            <p:cNvSpPr/>
            <p:nvPr/>
          </p:nvSpPr>
          <p:spPr>
            <a:xfrm>
              <a:off x="3203640" y="1052640"/>
              <a:ext cx="2590560" cy="1074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pt-BR" sz="5400" spc="-1" strike="noStrike">
                  <a:solidFill>
                    <a:srgbClr val="000000"/>
                  </a:solidFill>
                  <a:latin typeface="Arial"/>
                </a:rPr>
                <a:t>ProInfo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2057"/>
            <p:cNvSpPr/>
            <p:nvPr/>
          </p:nvSpPr>
          <p:spPr>
            <a:xfrm>
              <a:off x="324000" y="3012840"/>
              <a:ext cx="2592360" cy="1074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Coordenaçõ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Estaduai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2058"/>
            <p:cNvSpPr/>
            <p:nvPr/>
          </p:nvSpPr>
          <p:spPr>
            <a:xfrm>
              <a:off x="3276720" y="3012840"/>
              <a:ext cx="2590560" cy="1074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ME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2059"/>
            <p:cNvSpPr/>
            <p:nvPr/>
          </p:nvSpPr>
          <p:spPr>
            <a:xfrm>
              <a:off x="3492360" y="5254560"/>
              <a:ext cx="2100240" cy="910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NTE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Line 16"/>
          <p:cNvSpPr/>
          <p:nvPr/>
        </p:nvSpPr>
        <p:spPr>
          <a:xfrm>
            <a:off x="1692360" y="26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8"/>
          <p:cNvSpPr/>
          <p:nvPr/>
        </p:nvSpPr>
        <p:spPr>
          <a:xfrm>
            <a:off x="4500720" y="21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7380360" y="26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1"/>
          <p:cNvSpPr/>
          <p:nvPr/>
        </p:nvSpPr>
        <p:spPr>
          <a:xfrm>
            <a:off x="4500720" y="26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2"/>
          <p:cNvSpPr/>
          <p:nvPr/>
        </p:nvSpPr>
        <p:spPr>
          <a:xfrm>
            <a:off x="1619280" y="414972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"/>
          <p:cNvSpPr/>
          <p:nvPr/>
        </p:nvSpPr>
        <p:spPr>
          <a:xfrm>
            <a:off x="4500720" y="4076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5"/>
          <p:cNvSpPr/>
          <p:nvPr/>
        </p:nvSpPr>
        <p:spPr>
          <a:xfrm>
            <a:off x="1619280" y="573408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6"/>
          <p:cNvSpPr/>
          <p:nvPr/>
        </p:nvSpPr>
        <p:spPr>
          <a:xfrm>
            <a:off x="6443640" y="2997360"/>
            <a:ext cx="1944720" cy="1079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D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8"/>
          <p:cNvSpPr/>
          <p:nvPr/>
        </p:nvSpPr>
        <p:spPr>
          <a:xfrm>
            <a:off x="6443640" y="4365720"/>
            <a:ext cx="1944720" cy="10810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efeitur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>
            <a:off x="738036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0"/>
          <p:cNvSpPr/>
          <p:nvPr/>
        </p:nvSpPr>
        <p:spPr>
          <a:xfrm>
            <a:off x="5580000" y="57340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>
            <a:off x="7380360" y="5445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2"/>
          <p:cNvSpPr/>
          <p:nvPr/>
        </p:nvSpPr>
        <p:spPr>
          <a:xfrm>
            <a:off x="5219640" y="4076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3"/>
          <p:cNvSpPr/>
          <p:nvPr/>
        </p:nvSpPr>
        <p:spPr>
          <a:xfrm>
            <a:off x="5219640" y="4797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4"/>
          <p:cNvSpPr/>
          <p:nvPr/>
        </p:nvSpPr>
        <p:spPr>
          <a:xfrm>
            <a:off x="291636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5"/>
          <p:cNvSpPr/>
          <p:nvPr/>
        </p:nvSpPr>
        <p:spPr>
          <a:xfrm>
            <a:off x="5867280" y="35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7"/>
          <p:cNvSpPr/>
          <p:nvPr/>
        </p:nvSpPr>
        <p:spPr>
          <a:xfrm>
            <a:off x="1692360" y="263700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8" descr=""/>
          <p:cNvPicPr/>
          <p:nvPr/>
        </p:nvPicPr>
        <p:blipFill>
          <a:blip r:embed="rId1"/>
          <a:stretch/>
        </p:blipFill>
        <p:spPr>
          <a:xfrm>
            <a:off x="7596360" y="6237360"/>
            <a:ext cx="13618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353960" y="3141720"/>
            <a:ext cx="2210040" cy="12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838080" y="2657520"/>
            <a:ext cx="76201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397160" y="5462640"/>
            <a:ext cx="6860880" cy="81288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962280" cy="982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693800" y="571680"/>
            <a:ext cx="66042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Verdana"/>
              </a:rPr>
              <a:t>Ministério da Educaçã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8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Verdana"/>
              </a:rPr>
              <a:t>PAPÉ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499400" y="2994120"/>
            <a:ext cx="19378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MEC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63800" y="1904760"/>
            <a:ext cx="3716280" cy="53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968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519120"/>
                <a:tab algn="l" pos="968400"/>
                <a:tab algn="l" pos="1417680"/>
                <a:tab algn="l" pos="1866960"/>
                <a:tab algn="l" pos="2316240"/>
                <a:tab algn="l" pos="2765520"/>
                <a:tab algn="l" pos="3214800"/>
                <a:tab algn="l" pos="3664080"/>
                <a:tab algn="l" pos="4113360"/>
                <a:tab algn="l" pos="4562640"/>
                <a:tab algn="l" pos="5011560"/>
                <a:tab algn="l" pos="5460840"/>
                <a:tab algn="l" pos="5910120"/>
                <a:tab algn="l" pos="6359400"/>
                <a:tab algn="l" pos="6810480"/>
                <a:tab algn="l" pos="7257960"/>
                <a:tab algn="l" pos="7707240"/>
                <a:tab algn="l" pos="8156520"/>
                <a:tab algn="l" pos="8605800"/>
                <a:tab algn="l" pos="905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09680" indent="-304920">
              <a:lnSpc>
                <a:spcPct val="97000"/>
              </a:lnSpc>
              <a:spcAft>
                <a:spcPts val="850"/>
              </a:spcAft>
              <a:buClr>
                <a:srgbClr val="ffffcc"/>
              </a:buClr>
              <a:buSzPct val="60000"/>
              <a:buFont typeface="Arial Black"/>
              <a:buChar char="•"/>
              <a:tabLst>
                <a:tab algn="l" pos="519120"/>
                <a:tab algn="l" pos="968400"/>
                <a:tab algn="l" pos="1417680"/>
                <a:tab algn="l" pos="1866960"/>
                <a:tab algn="l" pos="2316240"/>
                <a:tab algn="l" pos="2765520"/>
                <a:tab algn="l" pos="3214800"/>
                <a:tab algn="l" pos="3664080"/>
                <a:tab algn="l" pos="4113360"/>
                <a:tab algn="l" pos="4562640"/>
                <a:tab algn="l" pos="5011560"/>
                <a:tab algn="l" pos="5460840"/>
                <a:tab algn="l" pos="5910120"/>
                <a:tab algn="l" pos="6359400"/>
                <a:tab algn="l" pos="6810480"/>
                <a:tab algn="l" pos="7257960"/>
                <a:tab algn="l" pos="7707240"/>
                <a:tab algn="l" pos="8156520"/>
                <a:tab algn="l" pos="8605800"/>
                <a:tab algn="l" pos="905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Foment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09680" indent="-304920">
              <a:lnSpc>
                <a:spcPct val="12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Arial Black"/>
              <a:buChar char="•"/>
              <a:tabLst>
                <a:tab algn="l" pos="519120"/>
                <a:tab algn="l" pos="968400"/>
                <a:tab algn="l" pos="1417680"/>
                <a:tab algn="l" pos="1866960"/>
                <a:tab algn="l" pos="2316240"/>
                <a:tab algn="l" pos="2765520"/>
                <a:tab algn="l" pos="3214800"/>
                <a:tab algn="l" pos="3664080"/>
                <a:tab algn="l" pos="4113360"/>
                <a:tab algn="l" pos="4562640"/>
                <a:tab algn="l" pos="5011560"/>
                <a:tab algn="l" pos="5460840"/>
                <a:tab algn="l" pos="5910120"/>
                <a:tab algn="l" pos="6359400"/>
                <a:tab algn="l" pos="6810480"/>
                <a:tab algn="l" pos="7257960"/>
                <a:tab algn="l" pos="7707240"/>
                <a:tab algn="l" pos="8156520"/>
                <a:tab algn="l" pos="8605800"/>
                <a:tab algn="l" pos="905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Coorden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09680" indent="-304920">
              <a:lnSpc>
                <a:spcPct val="12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Arial Black"/>
              <a:buChar char="•"/>
              <a:tabLst>
                <a:tab algn="l" pos="519120"/>
                <a:tab algn="l" pos="968400"/>
                <a:tab algn="l" pos="1417680"/>
                <a:tab algn="l" pos="1866960"/>
                <a:tab algn="l" pos="2316240"/>
                <a:tab algn="l" pos="2765520"/>
                <a:tab algn="l" pos="3214800"/>
                <a:tab algn="l" pos="3664080"/>
                <a:tab algn="l" pos="4113360"/>
                <a:tab algn="l" pos="4562640"/>
                <a:tab algn="l" pos="5011560"/>
                <a:tab algn="l" pos="5460840"/>
                <a:tab algn="l" pos="5910120"/>
                <a:tab algn="l" pos="6359400"/>
                <a:tab algn="l" pos="6810480"/>
                <a:tab algn="l" pos="7257960"/>
                <a:tab algn="l" pos="7707240"/>
                <a:tab algn="l" pos="8156520"/>
                <a:tab algn="l" pos="8605800"/>
                <a:tab algn="l" pos="905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Articul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09680" indent="-304920">
              <a:lnSpc>
                <a:spcPct val="120000"/>
              </a:lnSpc>
              <a:spcBef>
                <a:spcPts val="1500"/>
              </a:spcBef>
              <a:spcAft>
                <a:spcPts val="850"/>
              </a:spcAft>
              <a:buClr>
                <a:srgbClr val="ffffcc"/>
              </a:buClr>
              <a:buSzPct val="60000"/>
              <a:buFont typeface="Arial Black"/>
              <a:buChar char="•"/>
              <a:tabLst>
                <a:tab algn="l" pos="519120"/>
                <a:tab algn="l" pos="968400"/>
                <a:tab algn="l" pos="1417680"/>
                <a:tab algn="l" pos="1866960"/>
                <a:tab algn="l" pos="2316240"/>
                <a:tab algn="l" pos="2765520"/>
                <a:tab algn="l" pos="3214800"/>
                <a:tab algn="l" pos="3664080"/>
                <a:tab algn="l" pos="4113360"/>
                <a:tab algn="l" pos="4562640"/>
                <a:tab algn="l" pos="5011560"/>
                <a:tab algn="l" pos="5460840"/>
                <a:tab algn="l" pos="5910120"/>
                <a:tab algn="l" pos="6359400"/>
                <a:tab algn="l" pos="6810480"/>
                <a:tab algn="l" pos="7257960"/>
                <a:tab algn="l" pos="7707240"/>
                <a:tab algn="l" pos="8156520"/>
                <a:tab algn="l" pos="8605800"/>
                <a:tab algn="l" pos="905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Supervision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09680" indent="-304920">
              <a:lnSpc>
                <a:spcPct val="120000"/>
              </a:lnSpc>
              <a:spcBef>
                <a:spcPts val="1500"/>
              </a:spcBef>
              <a:spcAft>
                <a:spcPts val="850"/>
              </a:spcAft>
              <a:buClr>
                <a:srgbClr val="ffffcc"/>
              </a:buClr>
              <a:buSzPct val="60000"/>
              <a:buFont typeface="Arial Black"/>
              <a:buChar char="•"/>
              <a:tabLst>
                <a:tab algn="l" pos="519120"/>
                <a:tab algn="l" pos="968400"/>
                <a:tab algn="l" pos="1417680"/>
                <a:tab algn="l" pos="1866960"/>
                <a:tab algn="l" pos="2316240"/>
                <a:tab algn="l" pos="2765520"/>
                <a:tab algn="l" pos="3214800"/>
                <a:tab algn="l" pos="3664080"/>
                <a:tab algn="l" pos="4113360"/>
                <a:tab algn="l" pos="4562640"/>
                <a:tab algn="l" pos="5011560"/>
                <a:tab algn="l" pos="5460840"/>
                <a:tab algn="l" pos="5910120"/>
                <a:tab algn="l" pos="6359400"/>
                <a:tab algn="l" pos="6810480"/>
                <a:tab algn="l" pos="7257960"/>
                <a:tab algn="l" pos="7707240"/>
                <a:tab algn="l" pos="8156520"/>
                <a:tab algn="l" pos="8605800"/>
                <a:tab algn="l" pos="905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Suplement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09680" indent="0">
              <a:lnSpc>
                <a:spcPct val="120000"/>
              </a:lnSpc>
              <a:spcBef>
                <a:spcPts val="799"/>
              </a:spcBef>
              <a:spcAft>
                <a:spcPts val="850"/>
              </a:spcAft>
              <a:buNone/>
              <a:tabLst>
                <a:tab algn="l" pos="0"/>
                <a:tab algn="l" pos="519120"/>
                <a:tab algn="l" pos="968400"/>
                <a:tab algn="l" pos="1417680"/>
                <a:tab algn="l" pos="1866960"/>
                <a:tab algn="l" pos="2316240"/>
                <a:tab algn="l" pos="2765520"/>
                <a:tab algn="l" pos="3214800"/>
                <a:tab algn="l" pos="3664080"/>
                <a:tab algn="l" pos="4113360"/>
                <a:tab algn="l" pos="4562640"/>
                <a:tab algn="l" pos="5011560"/>
                <a:tab algn="l" pos="5460840"/>
                <a:tab algn="l" pos="5910120"/>
                <a:tab algn="l" pos="6359400"/>
                <a:tab algn="l" pos="6810480"/>
                <a:tab algn="l" pos="7257960"/>
                <a:tab algn="l" pos="7707240"/>
                <a:tab algn="l" pos="8156520"/>
                <a:tab algn="l" pos="8605800"/>
                <a:tab algn="l" pos="905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09680" indent="0">
              <a:lnSpc>
                <a:spcPct val="120000"/>
              </a:lnSpc>
              <a:spcBef>
                <a:spcPts val="799"/>
              </a:spcBef>
              <a:spcAft>
                <a:spcPts val="850"/>
              </a:spcAft>
              <a:buNone/>
              <a:tabLst>
                <a:tab algn="l" pos="0"/>
                <a:tab algn="l" pos="519120"/>
                <a:tab algn="l" pos="968400"/>
                <a:tab algn="l" pos="1417680"/>
                <a:tab algn="l" pos="1866960"/>
                <a:tab algn="l" pos="2316240"/>
                <a:tab algn="l" pos="2765520"/>
                <a:tab algn="l" pos="3214800"/>
                <a:tab algn="l" pos="3664080"/>
                <a:tab algn="l" pos="4113360"/>
                <a:tab algn="l" pos="4562640"/>
                <a:tab algn="l" pos="5011560"/>
                <a:tab algn="l" pos="5460840"/>
                <a:tab algn="l" pos="5910120"/>
                <a:tab algn="l" pos="6359400"/>
                <a:tab algn="l" pos="6810480"/>
                <a:tab algn="l" pos="7257960"/>
                <a:tab algn="l" pos="7707240"/>
                <a:tab algn="l" pos="8156520"/>
                <a:tab algn="l" pos="8605800"/>
                <a:tab algn="l" pos="905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2"/>
          <a:stretch/>
        </p:blipFill>
        <p:spPr>
          <a:xfrm>
            <a:off x="7273800" y="5851440"/>
            <a:ext cx="1362240" cy="435240"/>
          </a:xfrm>
          <a:prstGeom prst="rect">
            <a:avLst/>
          </a:prstGeom>
          <a:ln w="0">
            <a:noFill/>
          </a:ln>
        </p:spPr>
      </p:pic>
      <p:sp>
        <p:nvSpPr>
          <p:cNvPr id="101" name="Line 10"/>
          <p:cNvSpPr/>
          <p:nvPr/>
        </p:nvSpPr>
        <p:spPr>
          <a:xfrm flipH="1">
            <a:off x="4356000" y="234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4356000" y="234936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 flipH="1">
            <a:off x="3780000" y="3357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4427640" y="5373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 flipV="1">
            <a:off x="4427640" y="4221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5"/>
          <p:cNvSpPr/>
          <p:nvPr/>
        </p:nvSpPr>
        <p:spPr>
          <a:xfrm flipH="1">
            <a:off x="3779640" y="4221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1"/>
          <p:cNvSpPr/>
          <p:nvPr/>
        </p:nvSpPr>
        <p:spPr>
          <a:xfrm>
            <a:off x="2411280" y="1523880"/>
            <a:ext cx="6392880" cy="4662720"/>
          </a:xfrm>
          <a:prstGeom prst="roundRect">
            <a:avLst>
              <a:gd name="adj" fmla="val 28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324000" y="2997360"/>
            <a:ext cx="1944360" cy="1008000"/>
          </a:xfrm>
          <a:prstGeom prst="roundRect">
            <a:avLst>
              <a:gd name="adj" fmla="val 106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838080" y="2657520"/>
            <a:ext cx="76201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1397160" y="5462640"/>
            <a:ext cx="6860880" cy="81288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962280" cy="9828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1239840" y="671400"/>
            <a:ext cx="6962760" cy="10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Verdana"/>
              </a:rPr>
              <a:t>Ministério da Educaçã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2809800" cy="16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17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5126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01760" indent="0">
              <a:lnSpc>
                <a:spcPct val="120000"/>
              </a:lnSpc>
              <a:spcBef>
                <a:spcPts val="3149"/>
              </a:spcBef>
              <a:buNone/>
              <a:tabLst>
                <a:tab algn="l" pos="0"/>
                <a:tab algn="l" pos="5126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FOCO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11280" y="1712520"/>
            <a:ext cx="639288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1760" indent="-297000">
              <a:lnSpc>
                <a:spcPct val="100000"/>
              </a:lnSpc>
              <a:spcBef>
                <a:spcPts val="850"/>
              </a:spcBef>
              <a:spcAft>
                <a:spcPts val="850"/>
              </a:spcAft>
              <a:buClr>
                <a:srgbClr val="ffffcc"/>
              </a:buClr>
              <a:buSzPct val="60000"/>
              <a:buFont typeface="Arial Black"/>
              <a:buChar char="•"/>
              <a:tabLst>
                <a:tab algn="l" pos="5126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ELHORIA NA QUALIDADE DA EDUCAÇÃO BÁS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01760" indent="-297000">
              <a:lnSpc>
                <a:spcPct val="100000"/>
              </a:lnSpc>
              <a:spcBef>
                <a:spcPts val="850"/>
              </a:spcBef>
              <a:spcAft>
                <a:spcPts val="850"/>
              </a:spcAft>
              <a:buClr>
                <a:srgbClr val="ffffcc"/>
              </a:buClr>
              <a:buSzPct val="60000"/>
              <a:buFont typeface="Arial Black"/>
              <a:buChar char="•"/>
              <a:tabLst>
                <a:tab algn="l" pos="5126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MENTO AO INTERESSE POR C&amp;T E À EDUCAÇÃO TECNOLÓG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01760" indent="-297000">
              <a:lnSpc>
                <a:spcPct val="100000"/>
              </a:lnSpc>
              <a:spcBef>
                <a:spcPts val="850"/>
              </a:spcBef>
              <a:spcAft>
                <a:spcPts val="850"/>
              </a:spcAft>
              <a:buClr>
                <a:srgbClr val="ffffcc"/>
              </a:buClr>
              <a:buSzPct val="60000"/>
              <a:buFont typeface="Arial Black"/>
              <a:buChar char="•"/>
              <a:tabLst>
                <a:tab algn="l" pos="5126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MPLIAÇÃO DO ACESSO AO ENSINO SUPERI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01760" indent="-297000">
              <a:lnSpc>
                <a:spcPct val="100000"/>
              </a:lnSpc>
              <a:spcBef>
                <a:spcPts val="850"/>
              </a:spcBef>
              <a:spcAft>
                <a:spcPts val="850"/>
              </a:spcAft>
              <a:buClr>
                <a:srgbClr val="ffffcc"/>
              </a:buClr>
              <a:buSzPct val="60000"/>
              <a:buFont typeface="Arial Black"/>
              <a:buChar char="•"/>
              <a:tabLst>
                <a:tab algn="l" pos="5126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CLUSÃO DIGITAL A PARTIR DA ESCO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01760" indent="-297000">
              <a:lnSpc>
                <a:spcPct val="100000"/>
              </a:lnSpc>
              <a:spcBef>
                <a:spcPts val="601"/>
              </a:spcBef>
              <a:spcAft>
                <a:spcPts val="850"/>
              </a:spcAft>
              <a:buClr>
                <a:srgbClr val="ffffcc"/>
              </a:buClr>
              <a:buSzPct val="60000"/>
              <a:buFont typeface="Arial Black"/>
              <a:buChar char="•"/>
              <a:tabLst>
                <a:tab algn="l" pos="5126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ALORIZAÇÃO DO PROFESS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Picture 9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1361880" cy="43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7880" y="21960"/>
            <a:ext cx="822816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6600"/>
                </a:solidFill>
                <a:latin typeface="Arial"/>
              </a:rPr>
              <a:t>Educação Básica 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8200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lnSpc>
                <a:spcPct val="107000"/>
              </a:lnSpc>
              <a:spcBef>
                <a:spcPts val="700"/>
              </a:spcBef>
              <a:buNone/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94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6600"/>
                </a:solidFill>
                <a:latin typeface="Verdana"/>
              </a:rPr>
              <a:t>Objetivo do PD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8680" indent="0">
              <a:lnSpc>
                <a:spcPct val="107000"/>
              </a:lnSpc>
              <a:spcBef>
                <a:spcPts val="1500"/>
              </a:spcBef>
              <a:buNone/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94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6600"/>
                </a:solidFill>
                <a:latin typeface="Verdana"/>
              </a:rPr>
              <a:t>Aumentar a qualidade da educação básica pública, enfrentando os problemas de rendimento, freqüência e permanência do aluno na escola, a partir da mobilização social em torno do </a:t>
            </a:r>
            <a:r>
              <a:rPr b="1" lang="en-GB" sz="2600" spc="-1" strike="noStrike">
                <a:solidFill>
                  <a:srgbClr val="006600"/>
                </a:solidFill>
                <a:latin typeface="Verdana"/>
              </a:rPr>
              <a:t>Compromisso Todos pela Educação</a:t>
            </a:r>
            <a:r>
              <a:rPr b="0" lang="en-GB" sz="26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4572000" y="587520"/>
            <a:ext cx="4567320" cy="6240240"/>
            <a:chOff x="4572000" y="587520"/>
            <a:chExt cx="4567320" cy="6240240"/>
          </a:xfrm>
        </p:grpSpPr>
        <p:sp>
          <p:nvSpPr>
            <p:cNvPr id="120" name="Text Box 6"/>
            <p:cNvSpPr/>
            <p:nvPr/>
          </p:nvSpPr>
          <p:spPr>
            <a:xfrm>
              <a:off x="6093720" y="6368760"/>
              <a:ext cx="144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Luxi Sans"/>
                </a:rPr>
                <a:t>Ministério</a:t>
              </a:r>
              <a:br>
                <a:rPr sz="1200"/>
              </a:br>
              <a:r>
                <a:rPr b="1" lang="en-GB" sz="1200" spc="-1" strike="noStrike">
                  <a:solidFill>
                    <a:srgbClr val="000000"/>
                  </a:solidFill>
                  <a:latin typeface="Luxi Sans"/>
                </a:rPr>
                <a:t>da Educação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7" descr=""/>
            <p:cNvPicPr/>
            <p:nvPr/>
          </p:nvPicPr>
          <p:blipFill>
            <a:blip r:embed="rId2"/>
            <a:stretch/>
          </p:blipFill>
          <p:spPr>
            <a:xfrm>
              <a:off x="7663320" y="6379920"/>
              <a:ext cx="132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Line 8"/>
            <p:cNvSpPr/>
            <p:nvPr/>
          </p:nvSpPr>
          <p:spPr>
            <a:xfrm>
              <a:off x="4572000" y="587520"/>
              <a:ext cx="45673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394920"/>
            <a:ext cx="77151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6600"/>
                </a:solidFill>
                <a:latin typeface="Arial"/>
              </a:rPr>
              <a:t>Como o MEC vê o uso das TIC </a:t>
            </a:r>
            <a:br>
              <a:rPr sz="4000"/>
            </a:br>
            <a:r>
              <a:rPr b="0" lang="en-GB" sz="4000" spc="-1" strike="noStrike">
                <a:solidFill>
                  <a:srgbClr val="336600"/>
                </a:solidFill>
                <a:latin typeface="Arial"/>
              </a:rPr>
              <a:t>e a ID nas escolas públicas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96472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1400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Existem “brechas digitais” entre comunidades e entre regiões inteir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cesso à Interne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E tem índice 5,4 vezes menores que o DF (menor índice: 7,6%, contra 41,2% do DF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pulação de menor renda acessa 154 vezes menos que a de maior renda (0,5% contra 77%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ó 2,5% dos estudantes mais pobres usam computador na escola; entre os mais ricos, o índice é de 37,3% (estabelecimentos públicos e privados)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962280" cy="982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7308720" y="6021360"/>
            <a:ext cx="1362240" cy="43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394920"/>
            <a:ext cx="77151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6600"/>
                </a:solidFill>
                <a:latin typeface="Arial"/>
              </a:rPr>
              <a:t>Como o MEC vê o uso das TIC </a:t>
            </a:r>
            <a:br>
              <a:rPr sz="4000"/>
            </a:br>
            <a:r>
              <a:rPr b="0" lang="en-GB" sz="4000" spc="-1" strike="noStrike">
                <a:solidFill>
                  <a:srgbClr val="336600"/>
                </a:solidFill>
                <a:latin typeface="Arial"/>
              </a:rPr>
              <a:t>e a ID nas escolas públicas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0360" y="2234880"/>
            <a:ext cx="8964720" cy="51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1400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O MEC reage a essa dura realidade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..universalizando a disponibilização de TIC nas escolas públicas de todos os níveis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PD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..dando prioridade às unidades educacionai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 mais baixo IDEB (1.242 municípios c/IDEB&lt;2,0)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ocalizadas nos chamados “Territórios da Cidadania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..buscando formas de garantir conexão às escolas públicas até 2010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962280" cy="982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7308720" y="6021360"/>
            <a:ext cx="1362240" cy="43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280" y="394920"/>
            <a:ext cx="77151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6600"/>
                </a:solidFill>
                <a:latin typeface="Arial"/>
              </a:rPr>
              <a:t>Como o MEC vê o uso das TIC </a:t>
            </a:r>
            <a:br>
              <a:rPr sz="4000"/>
            </a:br>
            <a:r>
              <a:rPr b="0" lang="en-GB" sz="4000" spc="-1" strike="noStrike">
                <a:solidFill>
                  <a:srgbClr val="336600"/>
                </a:solidFill>
                <a:latin typeface="Arial"/>
              </a:rPr>
              <a:t>e a ID nas escolas públicas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964720" cy="29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1400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Certeza de que a ID via escola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..tende a ser mais consistente, dado o cunho pedagóg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..tem amplo potencial de realização extra-esco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04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</a:rPr>
              <a:t>Objetivos prioritariamente didático-pedagógic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962280" cy="982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7308720" y="6021360"/>
            <a:ext cx="1362240" cy="43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990720" y="2057400"/>
            <a:ext cx="7315200" cy="1008720"/>
            <a:chOff x="990720" y="2057400"/>
            <a:chExt cx="7315200" cy="1008720"/>
          </a:xfrm>
        </p:grpSpPr>
        <p:grpSp>
          <p:nvGrpSpPr>
            <p:cNvPr id="136" name="Group 3"/>
            <p:cNvGrpSpPr/>
            <p:nvPr/>
          </p:nvGrpSpPr>
          <p:grpSpPr>
            <a:xfrm>
              <a:off x="990720" y="2252880"/>
              <a:ext cx="3314520" cy="466560"/>
              <a:chOff x="990720" y="2252880"/>
              <a:chExt cx="3314520" cy="466560"/>
            </a:xfrm>
          </p:grpSpPr>
          <p:sp>
            <p:nvSpPr>
              <p:cNvPr id="137" name="Oval 4"/>
              <p:cNvSpPr/>
              <p:nvPr/>
            </p:nvSpPr>
            <p:spPr>
              <a:xfrm>
                <a:off x="990720" y="2408400"/>
                <a:ext cx="226800" cy="217440"/>
              </a:xfrm>
              <a:prstGeom prst="ellipse">
                <a:avLst/>
              </a:prstGeom>
              <a:solidFill>
                <a:srgbClr val="6699ff"/>
              </a:solidFill>
              <a:ln w="0">
                <a:noFill/>
              </a:ln>
              <a:effectLst>
                <a:outerShdw dist="17819" dir="2700000" blurRad="0" rotWithShape="0">
                  <a:srgbClr val="3c5b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Group 5"/>
              <p:cNvGrpSpPr/>
              <p:nvPr/>
            </p:nvGrpSpPr>
            <p:grpSpPr>
              <a:xfrm>
                <a:off x="1655640" y="2252880"/>
                <a:ext cx="2649600" cy="466560"/>
                <a:chOff x="1655640" y="2252880"/>
                <a:chExt cx="2649600" cy="466560"/>
              </a:xfrm>
            </p:grpSpPr>
            <p:sp>
              <p:nvSpPr>
                <p:cNvPr id="139" name="AutoShape 6"/>
                <p:cNvSpPr/>
                <p:nvPr/>
              </p:nvSpPr>
              <p:spPr>
                <a:xfrm>
                  <a:off x="1655640" y="2252880"/>
                  <a:ext cx="2649600" cy="466560"/>
                </a:xfrm>
                <a:prstGeom prst="roundRect">
                  <a:avLst>
                    <a:gd name="adj" fmla="val 21528"/>
                  </a:avLst>
                </a:prstGeom>
                <a:solidFill>
                  <a:srgbClr val="6699ff"/>
                </a:solidFill>
                <a:ln w="0">
                  <a:noFill/>
                </a:ln>
                <a:effectLst>
                  <a:outerShdw dist="107932" dir="2700000" blurRad="0" rotWithShape="0">
                    <a:srgbClr val="0033c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1" lang="en-US" sz="6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7"/>
                <p:cNvSpPr/>
                <p:nvPr/>
              </p:nvSpPr>
              <p:spPr>
                <a:xfrm>
                  <a:off x="1853640" y="2311200"/>
                  <a:ext cx="2319480" cy="24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0" bIns="0" anchor="t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1800" spc="-1" strike="noStrike">
                      <a:solidFill>
                        <a:srgbClr val="004f76"/>
                      </a:solidFill>
                      <a:latin typeface="Arial"/>
                    </a:rPr>
                    <a:t>Articulação 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" name="Text Box 8"/>
            <p:cNvSpPr/>
            <p:nvPr/>
          </p:nvSpPr>
          <p:spPr>
            <a:xfrm>
              <a:off x="5197680" y="2057400"/>
              <a:ext cx="3108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C, Outros Ministério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SED, UNDIM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stado, Município, Escol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9"/>
            <p:cNvSpPr/>
            <p:nvPr/>
          </p:nvSpPr>
          <p:spPr>
            <a:xfrm>
              <a:off x="4516560" y="2318040"/>
              <a:ext cx="565200" cy="430200"/>
            </a:xfrm>
            <a:prstGeom prst="rightArrow">
              <a:avLst>
                <a:gd name="adj1" fmla="val 50000"/>
                <a:gd name="adj2" fmla="val 32845"/>
              </a:avLst>
            </a:prstGeom>
            <a:solidFill>
              <a:srgbClr val="33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0"/>
          <p:cNvGrpSpPr/>
          <p:nvPr/>
        </p:nvGrpSpPr>
        <p:grpSpPr>
          <a:xfrm>
            <a:off x="990720" y="5105520"/>
            <a:ext cx="7596360" cy="1008720"/>
            <a:chOff x="990720" y="5105520"/>
            <a:chExt cx="7596360" cy="1008720"/>
          </a:xfrm>
        </p:grpSpPr>
        <p:grpSp>
          <p:nvGrpSpPr>
            <p:cNvPr id="144" name="Group 11"/>
            <p:cNvGrpSpPr/>
            <p:nvPr/>
          </p:nvGrpSpPr>
          <p:grpSpPr>
            <a:xfrm>
              <a:off x="990720" y="5213160"/>
              <a:ext cx="3314160" cy="466200"/>
              <a:chOff x="990720" y="5213160"/>
              <a:chExt cx="3314160" cy="466200"/>
            </a:xfrm>
          </p:grpSpPr>
          <p:sp>
            <p:nvSpPr>
              <p:cNvPr id="145" name="Oval 12"/>
              <p:cNvSpPr/>
              <p:nvPr/>
            </p:nvSpPr>
            <p:spPr>
              <a:xfrm>
                <a:off x="990720" y="5368320"/>
                <a:ext cx="226800" cy="217080"/>
              </a:xfrm>
              <a:prstGeom prst="ellipse">
                <a:avLst/>
              </a:prstGeom>
              <a:solidFill>
                <a:srgbClr val="6699ff"/>
              </a:solidFill>
              <a:ln w="0">
                <a:noFill/>
              </a:ln>
              <a:effectLst>
                <a:outerShdw dist="17819" dir="2700000" blurRad="0" rotWithShape="0">
                  <a:srgbClr val="3c5b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Group 13"/>
              <p:cNvGrpSpPr/>
              <p:nvPr/>
            </p:nvGrpSpPr>
            <p:grpSpPr>
              <a:xfrm>
                <a:off x="1655280" y="5213160"/>
                <a:ext cx="2649600" cy="466200"/>
                <a:chOff x="1655280" y="5213160"/>
                <a:chExt cx="2649600" cy="466200"/>
              </a:xfrm>
            </p:grpSpPr>
            <p:sp>
              <p:nvSpPr>
                <p:cNvPr id="147" name="AutoShape 14"/>
                <p:cNvSpPr/>
                <p:nvPr/>
              </p:nvSpPr>
              <p:spPr>
                <a:xfrm>
                  <a:off x="1655280" y="5213160"/>
                  <a:ext cx="2649600" cy="466200"/>
                </a:xfrm>
                <a:prstGeom prst="roundRect">
                  <a:avLst>
                    <a:gd name="adj" fmla="val 21528"/>
                  </a:avLst>
                </a:prstGeom>
                <a:solidFill>
                  <a:srgbClr val="6699ff"/>
                </a:solidFill>
                <a:ln w="0">
                  <a:noFill/>
                </a:ln>
                <a:effectLst>
                  <a:outerShdw dist="107932" dir="2700000" blurRad="0" rotWithShape="0">
                    <a:srgbClr val="0033c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1" lang="en-US" sz="6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Rectangle 15"/>
                <p:cNvSpPr/>
                <p:nvPr/>
              </p:nvSpPr>
              <p:spPr>
                <a:xfrm>
                  <a:off x="1842120" y="5271480"/>
                  <a:ext cx="2319840" cy="24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1800" spc="-1" strike="noStrike">
                      <a:solidFill>
                        <a:srgbClr val="004f76"/>
                      </a:solidFill>
                      <a:latin typeface="Arial"/>
                    </a:rPr>
                    <a:t>Parceria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Text Box 16"/>
            <p:cNvSpPr/>
            <p:nvPr/>
          </p:nvSpPr>
          <p:spPr>
            <a:xfrm>
              <a:off x="5193720" y="5105520"/>
              <a:ext cx="3393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unidad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stabelecimentos de Ensin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mpresa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17"/>
            <p:cNvSpPr/>
            <p:nvPr/>
          </p:nvSpPr>
          <p:spPr>
            <a:xfrm>
              <a:off x="4519440" y="5276520"/>
              <a:ext cx="564840" cy="429840"/>
            </a:xfrm>
            <a:prstGeom prst="rightArrow">
              <a:avLst>
                <a:gd name="adj1" fmla="val 50000"/>
                <a:gd name="adj2" fmla="val 32852"/>
              </a:avLst>
            </a:prstGeom>
            <a:solidFill>
              <a:srgbClr val="33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8"/>
          <p:cNvGrpSpPr/>
          <p:nvPr/>
        </p:nvGrpSpPr>
        <p:grpSpPr>
          <a:xfrm>
            <a:off x="990720" y="4191120"/>
            <a:ext cx="6512040" cy="703800"/>
            <a:chOff x="990720" y="4191120"/>
            <a:chExt cx="6512040" cy="703800"/>
          </a:xfrm>
        </p:grpSpPr>
        <p:sp>
          <p:nvSpPr>
            <p:cNvPr id="152" name="Text Box 19"/>
            <p:cNvSpPr/>
            <p:nvPr/>
          </p:nvSpPr>
          <p:spPr>
            <a:xfrm>
              <a:off x="5195880" y="4191120"/>
              <a:ext cx="230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enação loca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T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20"/>
            <p:cNvGrpSpPr/>
            <p:nvPr/>
          </p:nvGrpSpPr>
          <p:grpSpPr>
            <a:xfrm>
              <a:off x="990720" y="4273560"/>
              <a:ext cx="3315960" cy="465120"/>
              <a:chOff x="990720" y="4273560"/>
              <a:chExt cx="3315960" cy="465120"/>
            </a:xfrm>
          </p:grpSpPr>
          <p:sp>
            <p:nvSpPr>
              <p:cNvPr id="154" name="Oval 21"/>
              <p:cNvSpPr/>
              <p:nvPr/>
            </p:nvSpPr>
            <p:spPr>
              <a:xfrm>
                <a:off x="990720" y="4427640"/>
                <a:ext cx="226800" cy="216000"/>
              </a:xfrm>
              <a:prstGeom prst="ellipse">
                <a:avLst/>
              </a:prstGeom>
              <a:solidFill>
                <a:srgbClr val="6699ff"/>
              </a:solidFill>
              <a:ln w="0">
                <a:noFill/>
              </a:ln>
              <a:effectLst>
                <a:outerShdw dist="17819" dir="2700000" blurRad="0" rotWithShape="0">
                  <a:srgbClr val="3c5b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" name="Group 22"/>
              <p:cNvGrpSpPr/>
              <p:nvPr/>
            </p:nvGrpSpPr>
            <p:grpSpPr>
              <a:xfrm>
                <a:off x="1655640" y="4273560"/>
                <a:ext cx="2651040" cy="465120"/>
                <a:chOff x="1655640" y="4273560"/>
                <a:chExt cx="2651040" cy="465120"/>
              </a:xfrm>
            </p:grpSpPr>
            <p:sp>
              <p:nvSpPr>
                <p:cNvPr id="156" name="AutoShape 23"/>
                <p:cNvSpPr/>
                <p:nvPr/>
              </p:nvSpPr>
              <p:spPr>
                <a:xfrm>
                  <a:off x="1655640" y="4273560"/>
                  <a:ext cx="2651040" cy="465120"/>
                </a:xfrm>
                <a:prstGeom prst="roundRect">
                  <a:avLst>
                    <a:gd name="adj" fmla="val 21528"/>
                  </a:avLst>
                </a:prstGeom>
                <a:solidFill>
                  <a:srgbClr val="6699ff"/>
                </a:solidFill>
                <a:ln w="0">
                  <a:noFill/>
                </a:ln>
                <a:effectLst>
                  <a:outerShdw dist="107932" dir="2700000" blurRad="0" rotWithShape="0">
                    <a:srgbClr val="0033c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1" lang="en-US" sz="6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24"/>
                <p:cNvSpPr/>
                <p:nvPr/>
              </p:nvSpPr>
              <p:spPr>
                <a:xfrm>
                  <a:off x="1853640" y="4330440"/>
                  <a:ext cx="231948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1800" spc="-1" strike="noStrike">
                      <a:solidFill>
                        <a:srgbClr val="004f76"/>
                      </a:solidFill>
                      <a:latin typeface="Arial"/>
                    </a:rPr>
                    <a:t>Descentralização 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8" name="AutoShape 25"/>
            <p:cNvSpPr/>
            <p:nvPr/>
          </p:nvSpPr>
          <p:spPr>
            <a:xfrm>
              <a:off x="4516560" y="4335480"/>
              <a:ext cx="565200" cy="428760"/>
            </a:xfrm>
            <a:prstGeom prst="rightArrow">
              <a:avLst>
                <a:gd name="adj1" fmla="val 50000"/>
                <a:gd name="adj2" fmla="val 32955"/>
              </a:avLst>
            </a:prstGeom>
            <a:solidFill>
              <a:srgbClr val="33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990720" y="3276720"/>
            <a:ext cx="5658120" cy="703800"/>
            <a:chOff x="990720" y="3276720"/>
            <a:chExt cx="5658120" cy="703800"/>
          </a:xfrm>
        </p:grpSpPr>
        <p:grpSp>
          <p:nvGrpSpPr>
            <p:cNvPr id="160" name="Group 27"/>
            <p:cNvGrpSpPr/>
            <p:nvPr/>
          </p:nvGrpSpPr>
          <p:grpSpPr>
            <a:xfrm>
              <a:off x="990720" y="3292560"/>
              <a:ext cx="3309840" cy="461880"/>
              <a:chOff x="990720" y="3292560"/>
              <a:chExt cx="3309840" cy="461880"/>
            </a:xfrm>
          </p:grpSpPr>
          <p:sp>
            <p:nvSpPr>
              <p:cNvPr id="161" name="Oval 28"/>
              <p:cNvSpPr/>
              <p:nvPr/>
            </p:nvSpPr>
            <p:spPr>
              <a:xfrm>
                <a:off x="990720" y="3448080"/>
                <a:ext cx="227160" cy="216000"/>
              </a:xfrm>
              <a:prstGeom prst="ellipse">
                <a:avLst/>
              </a:prstGeom>
              <a:solidFill>
                <a:srgbClr val="6699ff"/>
              </a:solidFill>
              <a:ln w="0">
                <a:noFill/>
              </a:ln>
              <a:effectLst>
                <a:outerShdw dist="17819" dir="2700000" blurRad="0" rotWithShape="0">
                  <a:srgbClr val="3c5b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6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Group 29"/>
              <p:cNvGrpSpPr/>
              <p:nvPr/>
            </p:nvGrpSpPr>
            <p:grpSpPr>
              <a:xfrm>
                <a:off x="1652760" y="3292560"/>
                <a:ext cx="2647800" cy="461880"/>
                <a:chOff x="1652760" y="3292560"/>
                <a:chExt cx="2647800" cy="461880"/>
              </a:xfrm>
            </p:grpSpPr>
            <p:sp>
              <p:nvSpPr>
                <p:cNvPr id="163" name="AutoShape 30"/>
                <p:cNvSpPr/>
                <p:nvPr/>
              </p:nvSpPr>
              <p:spPr>
                <a:xfrm>
                  <a:off x="1652760" y="3292560"/>
                  <a:ext cx="2647800" cy="461880"/>
                </a:xfrm>
                <a:prstGeom prst="roundRect">
                  <a:avLst>
                    <a:gd name="adj" fmla="val 21528"/>
                  </a:avLst>
                </a:prstGeom>
                <a:solidFill>
                  <a:srgbClr val="6699ff"/>
                </a:solidFill>
                <a:ln w="0">
                  <a:noFill/>
                </a:ln>
                <a:effectLst>
                  <a:outerShdw dist="107932" dir="2700000" blurRad="0" rotWithShape="0">
                    <a:srgbClr val="0033c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1" lang="en-US" sz="6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31"/>
                <p:cNvSpPr/>
                <p:nvPr/>
              </p:nvSpPr>
              <p:spPr>
                <a:xfrm>
                  <a:off x="1852560" y="3350880"/>
                  <a:ext cx="2315880" cy="24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0" bIns="0" anchor="t">
                  <a:noAutofit/>
                </a:bodyPr>
                <a:p>
                  <a:pPr algn="ctr"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1800" spc="-1" strike="noStrike">
                      <a:solidFill>
                        <a:srgbClr val="004f76"/>
                      </a:solidFill>
                      <a:latin typeface="Arial"/>
                    </a:rPr>
                    <a:t>Adesão 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Text Box 32"/>
            <p:cNvSpPr/>
            <p:nvPr/>
          </p:nvSpPr>
          <p:spPr>
            <a:xfrm>
              <a:off x="5194080" y="3276720"/>
              <a:ext cx="145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stituiçõ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essoa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33"/>
            <p:cNvSpPr/>
            <p:nvPr/>
          </p:nvSpPr>
          <p:spPr>
            <a:xfrm>
              <a:off x="4515120" y="3359160"/>
              <a:ext cx="565200" cy="426960"/>
            </a:xfrm>
            <a:prstGeom prst="rightArrow">
              <a:avLst>
                <a:gd name="adj1" fmla="val 50000"/>
                <a:gd name="adj2" fmla="val 33094"/>
              </a:avLst>
            </a:prstGeom>
            <a:solidFill>
              <a:srgbClr val="33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6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684720"/>
            <a:ext cx="6562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8" name="Text Box 35"/>
          <p:cNvSpPr/>
          <p:nvPr/>
        </p:nvSpPr>
        <p:spPr>
          <a:xfrm>
            <a:off x="1523880" y="404640"/>
            <a:ext cx="7069320" cy="15955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Secretaria de Educação a Distânci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Princípios de Açã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6" descr=""/>
          <p:cNvPicPr/>
          <p:nvPr/>
        </p:nvPicPr>
        <p:blipFill>
          <a:blip r:embed="rId1"/>
          <a:stretch/>
        </p:blipFill>
        <p:spPr>
          <a:xfrm>
            <a:off x="390600" y="190440"/>
            <a:ext cx="963360" cy="981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7" descr=""/>
          <p:cNvPicPr/>
          <p:nvPr/>
        </p:nvPicPr>
        <p:blipFill>
          <a:blip r:embed="rId2"/>
          <a:stretch/>
        </p:blipFill>
        <p:spPr>
          <a:xfrm>
            <a:off x="7667640" y="6308640"/>
            <a:ext cx="1290600" cy="36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395640"/>
            <a:ext cx="764388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ffffff"/>
                </a:solidFill>
                <a:latin typeface="Garamond"/>
              </a:rPr>
              <a:t>Secretaria de Educação a Distância</a:t>
            </a: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3800" spc="-1" strike="noStrike">
                <a:solidFill>
                  <a:srgbClr val="ffffff"/>
                </a:solidFill>
                <a:latin typeface="Garamond"/>
              </a:rPr>
              <a:t> SEED</a:t>
            </a:r>
            <a:endParaRPr b="0" lang="en-US" sz="3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39760" y="2057400"/>
            <a:ext cx="8004240" cy="31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Quatro eixos de açã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2449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ra-estrutu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ex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teúd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apacitaç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8960" cy="877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2"/>
          <a:stretch/>
        </p:blipFill>
        <p:spPr>
          <a:xfrm>
            <a:off x="7308720" y="6021360"/>
            <a:ext cx="1362240" cy="43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3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3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3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3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3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issoli</dc:creator>
  <dc:description/>
  <dc:language>en-US</dc:language>
  <cp:lastModifiedBy>Luciana Catarino</cp:lastModifiedBy>
  <dcterms:modified xsi:type="dcterms:W3CDTF">2009-03-31T17:51:21Z</dcterms:modified>
  <cp:revision>109</cp:revision>
  <dc:subject/>
  <dc:title>ID e Uso Intensivo das TIC  nas Escolas</dc:title>
</cp:coreProperties>
</file>